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3F0-4315-48CD-A7B7-3B757612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05E-F09A-4EA1-8865-CF38B6A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362-9DE1-4CBB-A8D0-653598B6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CDC-30DB-4246-B310-B5AF3338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8DE2-EB69-454C-A3CE-3C75D4C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54852-DB59-43E4-9688-110DDA7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09972-A56D-470A-AA1F-56C82F5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2D727-551F-4108-ADAE-8C75E3D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F758B-5921-4033-98B6-6E3AA8D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2971-2193-4363-A4ED-9A4C2C7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E2A5-577C-41F3-9983-5894ECB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BDA-D239-4B41-B07E-7F2ECAB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A0D3E-FE19-4AC7-A1D3-3FDE64E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8F3C-FFA6-4E53-A23E-6A080AF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10F9A-3097-4484-B0D1-5F0097F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2613C-7D1A-4B07-8B5E-3E0090B4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1A140-62B3-4B77-8C1E-EBB8E321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0CE-E362-47E0-AB81-5B6F7C05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750-139B-4D15-BB82-010B1BC7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804-E80F-44C7-895F-9A7211BA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033-CF12-456C-B202-03089BDE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119-9042-4757-9CBE-ABF377E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788-B9D8-495E-A191-0763BCC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64C-8FF5-46D8-8FAF-1272574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475-60C4-464C-A81A-31C26CF0D2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7AF-14E1-4877-9BA4-3D9E51CF6BC3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ΠΛΑΙΣΙΟ ΔΙΕΞΑΓΩΓΗΣ ΕΠΙΚΟΙΝΩΝΙΑ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ΙΩΣΗΦ ΦΡΑΓΚΟΥΛΗΣ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ΘΗΓΗ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ΙΚΑΝΟΤΗΤΕΣ ΠΟΥ ΧΡΕΙΑΖΟΝΤΑΙ ΣΤΗΝ ΕΠΙΚΟΙΝΩΝΙ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δραίωση της αυτοεκτίμ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Έκφραση συναισθη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ποδοχή και κατανόηση του άλλ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ξοικείωση με τη «γλώσσα του σώματος» και τα επίπεδα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εργητική ανταλλαγή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αρμόνιση μηνυμάτων – σκέψεων-συναισθημάτων -πράξε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Χαρακτηριστικά γνωρίσματα ενός ανθρώπου με αυτοεκτίμη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ναγνωρίζει τις ελλείψεις και τις αδυναμίες του, προσπαθεί να τις αντιμετωπίσει χωρίς να έχει αρνητικά συναισθήματα γι’ αυ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κφράζει με θάρρος τις ανάγκες και τις προσδοκίες τ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Υπερασπίζεται το δίκιο του χωρίς να προσβάλλει το δίκιο των άλλ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ειλικρινής με τα συναισθήματά του, ικανός να τα εκφράσει, συνεπής σε σχέση με αυτ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ανοικτός σε νέες καταστάσει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οκτά συνεχώς νέες πληροφορίες, γνώσεις, ικανότη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Κατανοεί τους άλλους, συνυπάρχει με αυτούς χωρίς να ασκεί αναίτια κριτική, χωρίς να τους εκμεταλλεύεται ή να τους μειώνει με τη συμπεριφορά το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ΑΚΡΟΑΣΗ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δεξιότητα της ενεργητικής ακρόασης είναι συμπεριφορά την οποία χρησιμοποιούμε για να δείξουμε ότι </a:t>
            </a:r>
            <a:r>
              <a:rPr b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προσέχουμε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το συνομιλητή μας και όχι ότι ακούμε παθητικ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 ΑΚΡΟ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Προσπαθούμε να συνθέσουμε τα λεκτικά και μη λεκτικά μηνύματα του συνομιλητή μας προκειμένου να καταλάβουμε αυτά που θέλει να μεταφέρει: δηλαδή </a:t>
            </a:r>
            <a:r>
              <a:rPr b="1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τι ακριβώς εννοεί και πώς αισθάνεται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Χαρακτηριστικά της ΕΝΕΡΓΗΤΙΚΗΣ  ΑΚΡΟΑΣΗ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Οπτική επαφ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οιτάζουμε το συνομιλητή μας στα μάτ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Σωματική γλώσσ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άση του σώματος σε σχέση με το συνομιλητή μ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ινήσεις και χειρονομ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Εκφράσεις του προσώπ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Νεύ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ίνηση και τοποθέτηση του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ώματος στο χώρ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ΕΜΠΟΔΙΑ ΕΠΙΚΟΙΝΩΝΙΑ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εντολές ή διαταγ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απειλ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Παραινέσεις – ηθικολογ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Διδασκαλ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Κριτική, κατηγο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αρακτηρισμοί, ταπει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Ερμηνείες, διαγ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Ανάκρι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8:34:30Z</dcterms:created>
  <dc:creator>vzoupas</dc:creator>
  <dc:description/>
  <dc:language>en-US</dc:language>
  <cp:lastModifiedBy>Γεώργιος Φραγκούλης</cp:lastModifiedBy>
  <dcterms:modified xsi:type="dcterms:W3CDTF">2022-03-27T07:33:09Z</dcterms:modified>
  <cp:revision>6</cp:revision>
  <dc:subject/>
  <dc:title>ΙΚΑΝΟΤΗΤΕΣ ΠΟΥ ΧΡΕΙΑΖΟΝΤΑΙ ΣΤΗΝ ΕΠΙΚΟΙΝΩΝΙΑ</dc:title>
</cp:coreProperties>
</file>